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94C-E980-4A6E-81B8-F6EB1BA2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44C-6BA3-4E9F-84C8-F1C23566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119-E816-42F7-A8FC-DE36BCB3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F97-EF92-429B-A94A-CCCDA6E2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8A3-0B35-4D9D-AA00-E8E03279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5A2-DA1F-4E64-B337-C4D92EEF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73B-86C3-47DD-B2CC-7743975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9C7-C127-4718-B014-9F787D0A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181-8E6A-42A6-9C19-7E3989C7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E79-2C16-495D-A4C8-36600354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3E9-6D38-474A-B5AC-34390BC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BDF-D7A1-4CBC-8E1C-0665AA68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43200" y="647712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4025-90D1-47E2-8ACC-D770F91C8A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2436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6:24Z</dcterms:modified>
  <cp:revision>35</cp:revision>
  <dc:subject/>
  <dc:title>幻灯片 1</dc:title>
</cp:coreProperties>
</file>